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4720-EB57-42A6-BD21-780B68BA4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6FB2-C2EF-482D-B003-615A8AA06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8E36-8459-4BF3-9083-B738A7CD3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A060-56AF-427B-8979-A53EAFD56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3642-D15C-4EBA-AE83-243375387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12B4-924F-4496-9EC6-E7B2DB273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34D7-5435-4640-9762-DDD3BCB1E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3D3D-CD64-4DF7-A773-FEE403B49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91AD-C462-4BA3-B3F2-0141F61C5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70C3-51DA-4CB2-BDC8-531FB6A8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77BB-2C09-4031-A527-1858B3B0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90B3-5282-4F36-A90D-3968514F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78A7D-C917-47CD-9039-52283037A13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office@amis.donbass.com" TargetMode="External"/><Relationship Id="rId3" Type="http://schemas.openxmlformats.org/officeDocument/2006/relationships/hyperlink" Target="http://www.amis.donbass.com/" TargetMode="External"/><Relationship Id="rId4" Type="http://schemas.openxmlformats.org/officeDocument/2006/relationships/hyperlink" Target="http://www.amis.donbass.com/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7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9.jpeg"/><Relationship Id="rId4" Type="http://schemas.openxmlformats.org/officeDocument/2006/relationships/hyperlink" Target="file:///tmp/home/.config/libreoffice/4/user/gallery/&#1044;&#1077;&#1084;&#1086;%20&#1041;&#1072;&#1085;&#1082;%208bit.wav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68360" y="1197000"/>
            <a:ext cx="822960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Прослушивание набранного речевого шаблона задания на системное устройство вывода с произнесением данных, взятых из реальной базы дан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Хранение звуковых данных в специальном структурированном файле обеспечивает целостность данных и их удобное визуальное представл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Прилагается большая библиотека фраз, созданная по заказам пользователей в процессе эксплуатации систем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7138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Источники данных</a:t>
            </a:r>
            <a:br>
              <a:rPr sz="3200"/>
            </a:b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e5ff"/>
                </a:solidFill>
                <a:latin typeface="Arial"/>
              </a:rPr>
              <a:t>Задания для оповещений извлекают необходимую информацию из баз данных и могут настраиваться двумя способам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95280" y="1915920"/>
            <a:ext cx="496908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ccecff"/>
                </a:solidFill>
                <a:latin typeface="Arial"/>
              </a:rPr>
              <a:t>В качестве БД используется файл определенной структуры типа </a:t>
            </a:r>
            <a:r>
              <a:rPr b="1" i="1" lang="en-US" sz="2200" spc="-1" strike="noStrike">
                <a:solidFill>
                  <a:srgbClr val="ccecff"/>
                </a:solidFill>
                <a:latin typeface="Arial"/>
              </a:rPr>
              <a:t>dBase</a:t>
            </a:r>
            <a:r>
              <a:rPr b="1" i="1" lang="ru-RU" sz="2200" spc="-1" strike="noStrike">
                <a:solidFill>
                  <a:srgbClr val="ccecff"/>
                </a:solidFill>
                <a:latin typeface="Arial"/>
              </a:rPr>
              <a:t>, имеющий некоторые обязательные поля и неограниченное количество дополнительных. Настройка задания сводится к выбору файла и ключевых параметров в дружественном интерфейсе.  Пользователь избавлен от необходимости знания особенностей СУБД и языка </a:t>
            </a:r>
            <a:r>
              <a:rPr b="1" i="1" lang="en-US" sz="2200" spc="-1" strike="noStrike">
                <a:solidFill>
                  <a:srgbClr val="ccecff"/>
                </a:solidFill>
                <a:latin typeface="Arial"/>
              </a:rPr>
              <a:t>SQL</a:t>
            </a:r>
            <a:r>
              <a:rPr b="1" i="1" lang="ru-RU" sz="22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68360" y="1916280"/>
            <a:ext cx="3435480" cy="4743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ccecff"/>
                </a:solidFill>
                <a:latin typeface="Arial"/>
              </a:rPr>
              <a:t>Используется БД любого типа. Выборка необходимых данных и запись результатов производится с помощью </a:t>
            </a:r>
            <a:r>
              <a:rPr b="1" i="1" lang="en-US" sz="2200" spc="-1" strike="noStrike">
                <a:solidFill>
                  <a:srgbClr val="ccecff"/>
                </a:solidFill>
                <a:latin typeface="Arial"/>
              </a:rPr>
              <a:t>SQL </a:t>
            </a:r>
            <a:r>
              <a:rPr b="1" i="1" lang="ru-RU" sz="2200" spc="-1" strike="noStrike">
                <a:solidFill>
                  <a:srgbClr val="ccecff"/>
                </a:solidFill>
                <a:latin typeface="Arial"/>
              </a:rPr>
              <a:t>команд. Пользователь ответственен за корректное построение запросов к БД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826920" y="1125360"/>
            <a:ext cx="3405240" cy="4899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1844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Пользователи системы КАКАДУ</a:t>
            </a:r>
            <a:br>
              <a:rPr sz="36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cc00"/>
                </a:solidFill>
                <a:latin typeface="Arial"/>
              </a:rPr>
              <a:t>Укра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68360" y="907920"/>
            <a:ext cx="8157960" cy="6120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Arial"/>
              </a:rPr>
              <a:t>Росс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23920" y="6237360"/>
            <a:ext cx="89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cc00"/>
                </a:solidFill>
                <a:latin typeface="Arial"/>
              </a:rPr>
              <a:t>Другие государства: Латвия «Паритатебанк», Грузия «ТАО Приватбанк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8157960" cy="6119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Контактная информац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ff"/>
                </a:solidFill>
                <a:latin typeface="Arial"/>
              </a:rPr>
              <a:t>ООО «АМИС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83047 Украина г. Донец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л. Полоцкая д. 5 оф.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л. </a:t>
            </a: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+38 062 386715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ТС </a:t>
            </a: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+38 050 328016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yivstar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+38 098 306861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kype </a:t>
            </a:r>
            <a:r>
              <a:rPr b="1" lang="en-US" sz="3200" spc="-1" strike="noStrike">
                <a:solidFill>
                  <a:srgbClr val="66ff66"/>
                </a:solidFill>
                <a:latin typeface="Arial"/>
              </a:rPr>
              <a:t>amisoffice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CQ</a:t>
            </a:r>
            <a:r>
              <a:rPr b="1" lang="en-US" sz="3200" spc="-1" strike="noStrike">
                <a:solidFill>
                  <a:srgbClr val="66ff66"/>
                </a:solidFill>
                <a:latin typeface="Arial"/>
              </a:rPr>
              <a:t> 4430610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-mail </a:t>
            </a:r>
            <a:r>
              <a:rPr b="0" lang="en-US" sz="32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office@amis.donbass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3200" spc="-1" strike="noStrike" u="sng">
                <a:solidFill>
                  <a:srgbClr val="99ccff"/>
                </a:solidFill>
                <a:uFillTx/>
                <a:latin typeface="Arial"/>
                <a:hlinkClick r:id="rId4"/>
              </a:rPr>
              <a:t>www.amis.donbass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Назнач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94920" y="4672080"/>
            <a:ext cx="858996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Аппаратно – программный комплекс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КАКАДУ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предназначен для автоматического оповещения по заданным спискам с помощью телефонных ли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11280" y="0"/>
            <a:ext cx="7848360" cy="5888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Области примен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АПК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КАКАДУ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специально разработан для оповещения клиентов о задолженности за предоставленные услуг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99"/>
                </a:solidFill>
                <a:latin typeface="Arial"/>
              </a:rPr>
              <a:t>банковские услуг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99"/>
                </a:solidFill>
                <a:latin typeface="Arial"/>
              </a:rPr>
              <a:t>услуги телефонной связ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99"/>
                </a:solidFill>
                <a:latin typeface="Arial"/>
              </a:rPr>
              <a:t>кабельное телевид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99"/>
                </a:solidFill>
                <a:latin typeface="Arial"/>
              </a:rPr>
              <a:t>коммунальные услуг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99"/>
                </a:solidFill>
                <a:latin typeface="Arial"/>
              </a:rPr>
              <a:t>услуги газовых, электрических и тепловых сет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99"/>
                </a:solidFill>
                <a:latin typeface="Arial"/>
              </a:rPr>
              <a:t>услуги Государственной Службы Охраны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Основные характеристики программного обеспеч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7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Дружественный графический пользовательский интерфей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95280" y="2025720"/>
            <a:ext cx="8377200" cy="4832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7138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ecff"/>
                </a:solidFill>
                <a:latin typeface="Arial"/>
              </a:rPr>
              <a:t>Организация многоканального режима, с возможностью закрепления каналов за определенным заданием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ecff"/>
                </a:solidFill>
                <a:latin typeface="Arial"/>
              </a:rPr>
              <a:t>Гибкое расписание оповещений: по времени суток, по дням недели, по числам месяца - в любом сочетани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2340000" y="1844640"/>
            <a:ext cx="3456000" cy="3033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68360" y="4842000"/>
            <a:ext cx="82296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ecff"/>
                </a:solidFill>
                <a:latin typeface="Arial"/>
              </a:rPr>
              <a:t>Поддержка БД любого тип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ecff"/>
                </a:solidFill>
                <a:latin typeface="Arial"/>
              </a:rPr>
              <a:t>Тестирование заданий: на системное звуковое устройство и на «Местный телефон»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ecff"/>
                </a:solidFill>
                <a:latin typeface="Arial"/>
              </a:rPr>
              <a:t>Формирование списков оповещенных и неоповещенных клиентов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Основные характеристики аппаратного обеспеч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700360" y="1628280"/>
            <a:ext cx="62755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Представляет собой малогабаритное </a:t>
            </a: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USB</a:t>
            </a: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-устройст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Для определения момента ответа абонента используется сигнал начала тарификации – смена поляр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108000" y="1557360"/>
            <a:ext cx="2732040" cy="21985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68360" y="3789360"/>
            <a:ext cx="835164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Простота в подключении и использован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Не требует настрой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Низкая стоимость и высокая надежн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Возможность подключения большого количества устройств – до 127 на одну шину </a:t>
            </a: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USB</a:t>
            </a: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Возможность «горячего» подключения и заме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Индикация состояния лин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Варианты подключ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8158320" cy="6119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 Unicode MS"/>
              </a:rPr>
              <a:t>Редактор речевых шаблонов оповещ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18920" y="764640"/>
            <a:ext cx="70786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Удобный графический интерфейс, дающий наглядное представление как источников звуковых данных так и шаблона оповещения любого зад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900000" y="1989000"/>
            <a:ext cx="7345440" cy="4713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79280" y="1484280"/>
            <a:ext cx="1224000" cy="289080"/>
          </a:xfrm>
          <a:custGeom>
            <a:avLst/>
            <a:gdLst>
              <a:gd name="textAreaLeft" fmla="*/ 32400 w 1224000"/>
              <a:gd name="textAreaRight" fmla="*/ 1191600 w 1224000"/>
              <a:gd name="textAreaTop" fmla="*/ 32400 h 289080"/>
              <a:gd name="textAreaBottom" fmla="*/ 256680 h 289080"/>
            </a:gdLst>
            <a:ahLst/>
            <a:rect l="textAreaLeft" t="textAreaTop" r="textAreaRight" b="textAreaBottom"/>
            <a:pathLst>
              <a:path w="91370" h="21600">
                <a:moveTo>
                  <a:pt x="0" y="0"/>
                </a:moveTo>
                <a:lnTo>
                  <a:pt x="91370" y="0"/>
                </a:lnTo>
                <a:lnTo>
                  <a:pt x="91370" y="21600"/>
                </a:lnTo>
                <a:lnTo>
                  <a:pt x="0" y="21600"/>
                </a:lnTo>
                <a:close/>
              </a:path>
              <a:path fill="lightenLess" w="91370" h="21600">
                <a:moveTo>
                  <a:pt x="0" y="0"/>
                </a:moveTo>
                <a:lnTo>
                  <a:pt x="91370" y="0"/>
                </a:lnTo>
                <a:lnTo>
                  <a:pt x="88935" y="2435"/>
                </a:lnTo>
                <a:lnTo>
                  <a:pt x="2435" y="2435"/>
                </a:lnTo>
                <a:close/>
              </a:path>
              <a:path fill="darken" w="91370" h="21600">
                <a:moveTo>
                  <a:pt x="91370" y="0"/>
                </a:moveTo>
                <a:lnTo>
                  <a:pt x="91370" y="21600"/>
                </a:lnTo>
                <a:lnTo>
                  <a:pt x="88935" y="19165"/>
                </a:lnTo>
                <a:lnTo>
                  <a:pt x="88935" y="2435"/>
                </a:lnTo>
                <a:close/>
              </a:path>
              <a:path fill="darkenLess" w="91370" h="21600">
                <a:moveTo>
                  <a:pt x="91370" y="21600"/>
                </a:moveTo>
                <a:lnTo>
                  <a:pt x="0" y="21600"/>
                </a:lnTo>
                <a:lnTo>
                  <a:pt x="2435" y="19165"/>
                </a:lnTo>
                <a:lnTo>
                  <a:pt x="88935" y="19165"/>
                </a:lnTo>
                <a:close/>
              </a:path>
              <a:path fill="lighten" w="91370" h="21600">
                <a:moveTo>
                  <a:pt x="0" y="21600"/>
                </a:moveTo>
                <a:lnTo>
                  <a:pt x="0" y="0"/>
                </a:lnTo>
                <a:lnTo>
                  <a:pt x="2435" y="2435"/>
                </a:lnTo>
                <a:lnTo>
                  <a:pt x="2435" y="19165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cc"/>
                </a:solidFill>
                <a:latin typeface="Arial"/>
              </a:rPr>
              <a:t>СТОП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>
            <a:hlinkClick r:id="rId4"/>
          </p:cNvPr>
          <p:cNvSpPr/>
          <p:nvPr/>
        </p:nvSpPr>
        <p:spPr>
          <a:xfrm>
            <a:off x="179280" y="981000"/>
            <a:ext cx="1224000" cy="289080"/>
          </a:xfrm>
          <a:custGeom>
            <a:avLst/>
            <a:gdLst>
              <a:gd name="textAreaLeft" fmla="*/ 18720 w 1224000"/>
              <a:gd name="textAreaRight" fmla="*/ 1205280 w 12240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91370" h="21600">
                <a:moveTo>
                  <a:pt x="0" y="0"/>
                </a:moveTo>
                <a:lnTo>
                  <a:pt x="91370" y="0"/>
                </a:lnTo>
                <a:lnTo>
                  <a:pt x="91370" y="21600"/>
                </a:lnTo>
                <a:lnTo>
                  <a:pt x="0" y="21600"/>
                </a:lnTo>
                <a:close/>
              </a:path>
              <a:path fill="lightenLess" w="91370" h="21600">
                <a:moveTo>
                  <a:pt x="0" y="0"/>
                </a:moveTo>
                <a:lnTo>
                  <a:pt x="91370" y="0"/>
                </a:lnTo>
                <a:lnTo>
                  <a:pt x="89970" y="1400"/>
                </a:lnTo>
                <a:lnTo>
                  <a:pt x="1400" y="1400"/>
                </a:lnTo>
                <a:close/>
              </a:path>
              <a:path fill="darken" w="91370" h="21600">
                <a:moveTo>
                  <a:pt x="91370" y="0"/>
                </a:moveTo>
                <a:lnTo>
                  <a:pt x="91370" y="21600"/>
                </a:lnTo>
                <a:lnTo>
                  <a:pt x="89970" y="20200"/>
                </a:lnTo>
                <a:lnTo>
                  <a:pt x="89970" y="1400"/>
                </a:lnTo>
                <a:close/>
              </a:path>
              <a:path fill="darkenLess" w="91370" h="21600">
                <a:moveTo>
                  <a:pt x="913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970" y="20200"/>
                </a:lnTo>
                <a:close/>
              </a:path>
              <a:path fill="lighten" w="913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прослушат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Использование метода </a:t>
            </a: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drag’n’drop </a:t>
            </a: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позволяет за считанные минуты составить сложный, состоящий из неограниченного количества фраз, шаблон оповещ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Большой набор речевых функций, позволяющих произносить как постоянные (заданные пользователем) так и переменные (взятые из БД) величи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Встроенный звуковой редактор позволяет оперативно создавать, прослушивать и редактировать звуковые данны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2050920" y="4292640"/>
            <a:ext cx="4943520" cy="2047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9T11:27:28Z</dcterms:created>
  <dc:creator>OLEG</dc:creator>
  <dc:description/>
  <dc:language>en-US</dc:language>
  <cp:lastModifiedBy>OLEG</cp:lastModifiedBy>
  <dcterms:modified xsi:type="dcterms:W3CDTF">2009-06-10T10:04:04Z</dcterms:modified>
  <cp:revision>19</cp:revision>
  <dc:subject/>
  <dc:title>Слайд 1</dc:title>
</cp:coreProperties>
</file>